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4D0-E023-4314-B176-0370781D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2E6-8E60-43CF-8ADE-23D21C9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CBC-7255-4814-B042-A3A7C413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D2D-3A46-4605-963A-37D9E014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6A5-3B68-4F6F-BF57-3D474349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BB7-C881-44DF-B72F-40970FC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E34-A90E-4425-A823-DC4E1C4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5E1-BD2B-4782-9E7D-BE54346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44D-A0D2-4450-B544-F146A56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D4C-ACD1-47D6-BD78-13F602A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882-3015-4F74-8378-3A15632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9CF-7EFC-4533-A6C0-DBCABBE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733-112C-4522-8805-4D091552F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in%20título-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in%20título-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7:39:56Z</dcterms:created>
  <dc:creator>Grupo Editorial</dc:creator>
  <dc:description/>
  <dc:language>en-US</dc:language>
  <cp:lastModifiedBy>Grupo Editorial</cp:lastModifiedBy>
  <dcterms:modified xsi:type="dcterms:W3CDTF">2001-09-21T07:46:57Z</dcterms:modified>
  <cp:revision>1</cp:revision>
  <dc:subject/>
  <dc:title>Sin título de diapositiva</dc:title>
</cp:coreProperties>
</file>